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110-5CE1-46D6-9E7B-A5E11370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B4E-703C-4EB8-B01B-D5A0ECA1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2C7-732A-461D-AD58-ABBB01A2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4FF-7323-47A1-AC60-F4719ED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8979-2124-410B-B87B-7FFE33E3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08F3-C986-4EE4-958B-FB2D699A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63BB-F243-41CD-902F-9A996AC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5300-91C5-44CA-BB4E-D7D6389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A4FB-F2DC-44D1-9893-5BD6B7F0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6890-6741-40BC-811C-51F843D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3BE0-EF1D-4906-9355-AE58CA15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5D5-8DA2-4047-B00D-44727E4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F08F-71EC-4921-A24B-02E6F4FC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E47D-29F9-4ED0-A2D9-35B73135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4F13-320D-41DA-9870-90A7ED99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7D0E-6073-4DF4-9DF4-F4F55BEA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0C51-B70D-46CA-B8DA-168A527A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79D-F7FA-4BF1-A839-020C2252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9C5-1E9D-4B8A-880A-F62D51D4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EA0-AA12-4A88-8E4F-33DB2C5D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C10-6D25-413D-9C55-C1B597D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23A-2E7C-45FF-818F-34C8DBD5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B212-0909-4D4B-93CF-94F535D0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B16-14F5-4222-9D9F-A0EE59C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F8B8-8315-4B39-9AC7-5EA3E14F50ED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9EE7-B4DB-4DB9-9E6D-F3A20D9AB8DF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ff"/>
                </a:solidFill>
                <a:latin typeface="Tahoma"/>
              </a:rPr>
              <a:t>A-KORTTI</a:t>
            </a:r>
            <a:endParaRPr b="0" lang="en-US" sz="7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4886280" cy="37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110-1941-4D23-B921-0CDE5D7416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KSTINKÄSITTEL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ekstin kirjoitta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otoil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uluk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uvan lisää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ulost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344016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E26-DDC4-430B-9E1F-4B6AAEBDDD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AULUKKOLASKENT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ietojen syöttä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aavojen laati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uotoilut ja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hostee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Kaavioiden laatimin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3810240" cy="343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ino Ajokortt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B5A-0C0F-4108-A9C5-EC96011C4E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.1.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1:08:57Z</dcterms:created>
  <dc:creator>atk</dc:creator>
  <dc:description/>
  <dc:language>en-US</dc:language>
  <cp:lastModifiedBy>Kurssi</cp:lastModifiedBy>
  <cp:lastPrinted>2001-01-09T07:40:44Z</cp:lastPrinted>
  <dcterms:modified xsi:type="dcterms:W3CDTF">2003-02-17T11:26:14Z</dcterms:modified>
  <cp:revision>8</cp:revision>
  <dc:subject/>
  <dc:title>Ei dian otsikkoa</dc:title>
</cp:coreProperties>
</file>